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59F2-510B-4B85-BA08-84AA6E5C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5F5-2697-47CA-AFC1-EB0A44B6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A20-0365-4392-B074-F3F8E5AE0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7B4-57F7-432C-B255-A7A6278A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4488-4857-44D6-91AE-4FB02472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9472-A095-470C-8272-37320395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BEFF-1CE9-4B8C-A8E9-EF1A748F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50BA-1423-4E0C-B429-54BAC1D9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4364-5E7D-48F8-8D65-3719C587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D696-2701-4EC6-B083-3AC9A8AE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EBB1-3F37-4009-A169-DEE27548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695E-C683-4828-8687-784ED7AB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BE76-07C8-4ACE-B819-B4FBBE66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9366-E300-42B8-8CBA-48B1E7BD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BCA1-9950-44CE-B7EF-2C573DD5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6BDF-99B7-4916-8901-A90308D1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375E-FD7A-47B6-898E-578FA4F3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5E5-21E3-410B-85E6-2CE8D22B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AEB0-41F2-4174-894B-167D8007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4175-814A-4A01-8E2D-F46195E0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252-84F2-4040-BA66-D34219DC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F17-A29B-4E9A-96F0-C2BE2CA3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6DD-A989-4628-BA66-31DCD31C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7CA-3E81-4E28-AB55-80A39B78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5C8D-74CF-4D5E-B37D-434B03DB2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53DE-D944-4ECF-AB8F-F3F984B98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maichin@mineola.k12.ny.us" TargetMode="External"/><Relationship Id="rId2" Type="http://schemas.openxmlformats.org/officeDocument/2006/relationships/hyperlink" Target="mailto:jpatterson@mineola.k12.ny.us" TargetMode="External"/><Relationship Id="rId3" Type="http://schemas.openxmlformats.org/officeDocument/2006/relationships/hyperlink" Target="mailto:wsmith@mineola.k12.ny.us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imsweb.com/login.php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nrcld.org/" TargetMode="External"/><Relationship Id="rId2" Type="http://schemas.openxmlformats.org/officeDocument/2006/relationships/hyperlink" Target="http://www.ncld.org/" TargetMode="External"/><Relationship Id="rId3" Type="http://schemas.openxmlformats.org/officeDocument/2006/relationships/hyperlink" Target="http://www.nasdse.org/" TargetMode="External"/><Relationship Id="rId4" Type="http://schemas.openxmlformats.org/officeDocument/2006/relationships/hyperlink" Target="http://www.rtinetwork.org/" TargetMode="External"/><Relationship Id="rId5" Type="http://schemas.openxmlformats.org/officeDocument/2006/relationships/hyperlink" Target="http://www.aimsweb.com/" TargetMode="External"/><Relationship Id="rId6" Type="http://schemas.openxmlformats.org/officeDocument/2006/relationships/hyperlink" Target="http://www.interventioncentral.org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F:/RTI/IST%20RTI%20Flowchart.doc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229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Who, What, When, Where, Why, and How of RtI in the Secondary School Setting: Making it Work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438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nnifer Maich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jmaichin@mineola.k12.ny.u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nice Patter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jpatterson@mineola.k12.ny.u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ttney Smi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smith@mineola.k12.ny.u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0" y="4952880"/>
            <a:ext cx="2286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tting Stuck in Tier 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enario: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team has an IST meeting to discuss a student who is struggling in school.  A few strategies were brainstormed after a lengthy conversation about what the student can’t do.  Six weeks later, the team meets again and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486400" y="3429000"/>
            <a:ext cx="2209680" cy="1719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638680" y="6095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e attached sample p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mplementation Part II: </a:t>
            </a:r>
            <a:br>
              <a:rPr sz="40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trategy Development (Tier I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eacher Ownersh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s. “Buy 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on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te Faculty Meeting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s from IST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ers working in groups to brainstorm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ed Out the ones that are not measu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 the collective strategies with the entire faculty &amp; bring them to IST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tach the strategies to resear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ow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(in Mineola Middle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chool)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hree Tier RTI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648320" y="2114640"/>
            <a:ext cx="4038480" cy="3497040"/>
            <a:chOff x="4648320" y="2114640"/>
            <a:chExt cx="4038480" cy="3497040"/>
          </a:xfrm>
        </p:grpSpPr>
        <p:sp>
          <p:nvSpPr>
            <p:cNvPr id="249" name="_s4112"/>
            <p:cNvSpPr/>
            <p:nvPr/>
          </p:nvSpPr>
          <p:spPr>
            <a:xfrm flipV="1">
              <a:off x="5994360" y="2114640"/>
              <a:ext cx="1346400" cy="1164960"/>
            </a:xfrm>
            <a:custGeom>
              <a:avLst/>
              <a:gdLst>
                <a:gd name="textAreaLeft" fmla="*/ 483120 w 1346400"/>
                <a:gd name="textAreaRight" fmla="*/ 863280 w 1346400"/>
                <a:gd name="textAreaTop" fmla="*/ 417960 h 1164960"/>
                <a:gd name="textAreaBottom" fmla="*/ 747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ier II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4113"/>
            <p:cNvSpPr/>
            <p:nvPr/>
          </p:nvSpPr>
          <p:spPr>
            <a:xfrm flipV="1">
              <a:off x="5321520" y="3279600"/>
              <a:ext cx="2692080" cy="1167120"/>
            </a:xfrm>
            <a:custGeom>
              <a:avLst/>
              <a:gdLst>
                <a:gd name="textAreaLeft" fmla="*/ 591840 w 2692080"/>
                <a:gd name="textAreaRight" fmla="*/ 2100240 w 2692080"/>
                <a:gd name="textAreaTop" fmla="*/ 256680 h 1167120"/>
                <a:gd name="textAreaBottom" fmla="*/ 910440 h 116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ier 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4114"/>
            <p:cNvSpPr/>
            <p:nvPr/>
          </p:nvSpPr>
          <p:spPr>
            <a:xfrm flipV="1">
              <a:off x="4648320" y="4446720"/>
              <a:ext cx="4038480" cy="1164960"/>
            </a:xfrm>
            <a:custGeom>
              <a:avLst/>
              <a:gdLst>
                <a:gd name="textAreaLeft" fmla="*/ 700920 w 4038480"/>
                <a:gd name="textAreaRight" fmla="*/ 3337560 w 4038480"/>
                <a:gd name="textAreaTop" fmla="*/ 201960 h 1164960"/>
                <a:gd name="textAreaBottom" fmla="*/ 963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9999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Tier I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676520" y="48006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thin the general education 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35053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IS (Content Area Teach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23623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mall Group AIS (Reading / Special Ed. Teach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33920" y="5257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38862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297180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6019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TI can also be used to address the social / emotional needs of our children (e.g. BIP; Group Counseling; Individual Counsel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0" y="1828800"/>
            <a:ext cx="6553080" cy="2819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r Structur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6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ELA --- with a Reading Teacher as a co-teacher (providing small group instru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Period Math --- Differentiated I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7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iod --- On-Target; AIS Math Tier II or III; AIS ELA Tier II or III; or any comb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8</a:t>
            </a:r>
            <a:r>
              <a:rPr b="1" lang="en-US" sz="2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eriod --- On-Target; AIS Math Tier II or III; AIS ELA Tier II or III; or any comb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sual Representation of Tiers II &amp; III in 7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and 8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Grad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ay A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ing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ing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n-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n-Targ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7180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259092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-6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1911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-14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5410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19520" y="1981080"/>
            <a:ext cx="533160" cy="1752840"/>
          </a:xfrm>
          <a:custGeom>
            <a:avLst/>
            <a:gdLst>
              <a:gd name="textAreaLeft" fmla="*/ 0 w 533160"/>
              <a:gd name="textAreaRight" fmla="*/ 192600 w 53316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623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53341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ay B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ing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ing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th Tier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A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th Tier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n-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n-Targ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10280" y="2057400"/>
            <a:ext cx="533520" cy="1600200"/>
          </a:xfrm>
          <a:custGeom>
            <a:avLst/>
            <a:gdLst>
              <a:gd name="textAreaLeft" fmla="*/ 0 w 533520"/>
              <a:gd name="textAreaRight" fmla="*/ 192600 w 5335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24480" y="5257800"/>
            <a:ext cx="381240" cy="838080"/>
          </a:xfrm>
          <a:custGeom>
            <a:avLst/>
            <a:gdLst>
              <a:gd name="textAreaLeft" fmla="*/ 0 w 381240"/>
              <a:gd name="textAreaRight" fmla="*/ 137520 w 3812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20120" y="25146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-6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41911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-14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556272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 stud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167652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504960" y="1676520"/>
            <a:ext cx="11430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AL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the academic needs of stud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a static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self-awareness of the students (e.g. skill breakdown on Assessments; DIG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empower the IST to make a differ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emotional needs of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IMS Web (Tracking Program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ing C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II – Benchmarking 3x/yea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monthly progress monitor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III – Strategic Monitoring (week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h CBM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II – Benchmarking 3x/yea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monthly progress monitor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r III – Strategic Monitoring (week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" descr="Summer and Fall Training Workshops"/>
          <p:cNvPicPr/>
          <p:nvPr/>
        </p:nvPicPr>
        <p:blipFill>
          <a:blip r:embed="rId1"/>
          <a:srcRect l="25345" t="0" r="6196" b="60451"/>
          <a:stretch/>
        </p:blipFill>
        <p:spPr>
          <a:xfrm>
            <a:off x="4952880" y="5562720"/>
            <a:ext cx="3962520" cy="10634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133720" y="304812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248520" y="304812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486400" y="1039320"/>
            <a:ext cx="3200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 AIMsWeb Data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8</a:t>
            </a:r>
            <a:r>
              <a:rPr b="0" lang="en-US" sz="4000" spc="-1" strike="noStrike" baseline="30000">
                <a:solidFill>
                  <a:srgbClr val="ccec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Grade Tier II AI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rcRect l="37595" t="33337" r="28126" b="10420"/>
          <a:stretch/>
        </p:blipFill>
        <p:spPr>
          <a:xfrm>
            <a:off x="152280" y="380880"/>
            <a:ext cx="5450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ample Student Benchmark Repor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9532" t="17709" r="14844" b="20835"/>
          <a:stretch/>
        </p:blipFill>
        <p:spPr>
          <a:xfrm>
            <a:off x="609480" y="1295280"/>
            <a:ext cx="7772400" cy="51912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276720" y="2743200"/>
            <a:ext cx="1676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657600"/>
            <a:ext cx="990360" cy="1523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ading Improvement Report for 2007-2008 School Year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809640" y="2050920"/>
            <a:ext cx="7648560" cy="43941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81280" y="2209680"/>
            <a:ext cx="19051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28800" y="4038480"/>
            <a:ext cx="23623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5334120"/>
            <a:ext cx="251460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bert Einstein once said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definition of insanity is doing the same thing over and over again and expecting different result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8120" y="380880"/>
            <a:ext cx="3333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Benchmark Scores for 2007-2008 School Yea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46120" y="1755720"/>
            <a:ext cx="7912080" cy="46483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200400" y="1930320"/>
            <a:ext cx="2209680" cy="2286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http://www.aimsweb.com/login.php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17188" t="13540" r="19532" b="72732"/>
          <a:stretch/>
        </p:blipFill>
        <p:spPr>
          <a:xfrm>
            <a:off x="38160" y="990720"/>
            <a:ext cx="9067680" cy="1600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rcRect l="27343" t="27086" r="58596" b="33337"/>
          <a:stretch/>
        </p:blipFill>
        <p:spPr>
          <a:xfrm>
            <a:off x="1523880" y="2590920"/>
            <a:ext cx="1949400" cy="4114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447920" y="2057400"/>
            <a:ext cx="10666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er CB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 and Enter Data in AIMs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 with AIS Teachers to discuss results and provide them with Passwords to AIMs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 about the “Philosophy” of 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 strategies to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iculum        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5791320"/>
            <a:ext cx="762120" cy="0"/>
          </a:xfrm>
          <a:prstGeom prst="line">
            <a:avLst/>
          </a:prstGeom>
          <a:ln w="63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25480" cy="8668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825480" cy="8668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 rot="1614600">
            <a:off x="6248160" y="457200"/>
            <a:ext cx="1244520" cy="12096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380880" y="2514600"/>
            <a:ext cx="825480" cy="866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5"/>
          <a:stretch/>
        </p:blipFill>
        <p:spPr>
          <a:xfrm>
            <a:off x="380880" y="4038480"/>
            <a:ext cx="8254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-304920" y="57240"/>
            <a:ext cx="9258480" cy="674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114640" y="2946240"/>
            <a:ext cx="4457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71640" y="4660920"/>
            <a:ext cx="674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29040" y="5003640"/>
            <a:ext cx="2628720" cy="8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1 - Univers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classroom instruction using research-based strategies with targeted studen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29040" y="3289320"/>
            <a:ext cx="2628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2 - Strateg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10-12 students) AIS Classe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nchmarking three times / yea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524400" y="1003320"/>
            <a:ext cx="1676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3 - Intens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group (4-6 students) AIS class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 Monitoring every 2-3 wee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3040" y="5232240"/>
            <a:ext cx="20574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t-Risk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, refers student to IST and moves student to Tier 2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2217800">
            <a:off x="-171360" y="39747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71560" y="3517920"/>
            <a:ext cx="1143000" cy="79992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, regression/no progr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86360" y="5232240"/>
            <a:ext cx="2057400" cy="914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n Target Stud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eacher analyzes data and keeps student in Tier 1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2775200">
            <a:off x="742680" y="23745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72240" y="3517920"/>
            <a:ext cx="11430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ree data check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66880" y="2057400"/>
            <a:ext cx="182880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sion /no progress, revise (repeat if not successful) --- consider referral to CS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2057400"/>
            <a:ext cx="1371600" cy="685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gr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e with progr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ST Proc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rot="13111800">
            <a:off x="1885320" y="7740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9954800">
            <a:off x="7143840" y="2603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9942200">
            <a:off x="8172360" y="408924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85840" y="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estions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990880" y="1695600"/>
            <a:ext cx="280044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RtI Resources/Link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nrcld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www.ncld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3"/>
              </a:rPr>
              <a:t>www.nasdse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4"/>
              </a:rPr>
              <a:t>http://www.rtinetwork.org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5"/>
              </a:rPr>
              <a:t>www.aimsweb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99"/>
                </a:solidFill>
                <a:uFillTx/>
                <a:latin typeface="Arial"/>
                <a:hlinkClick r:id="rId6"/>
              </a:rPr>
              <a:t>www.interventioncentral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sential Component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60760" y="1951200"/>
            <a:ext cx="3822120" cy="3822120"/>
            <a:chOff x="2660760" y="1951200"/>
            <a:chExt cx="3822120" cy="3822120"/>
          </a:xfrm>
        </p:grpSpPr>
        <p:sp>
          <p:nvSpPr>
            <p:cNvPr id="218" name="_s46089"/>
            <p:cNvSpPr/>
            <p:nvPr/>
          </p:nvSpPr>
          <p:spPr>
            <a:xfrm>
              <a:off x="3271680" y="1951200"/>
              <a:ext cx="2600640" cy="2600280"/>
            </a:xfrm>
            <a:custGeom>
              <a:avLst/>
              <a:gdLst>
                <a:gd name="textAreaLeft" fmla="*/ 0 w 2600640"/>
                <a:gd name="textAreaRight" fmla="*/ 2601000 w 2600640"/>
                <a:gd name="textAreaTop" fmla="*/ 0 h 2600280"/>
                <a:gd name="textAreaBottom" fmla="*/ 2600640 h 26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_s46094"/>
            <p:cNvSpPr/>
            <p:nvPr/>
          </p:nvSpPr>
          <p:spPr>
            <a:xfrm rot="5400000">
              <a:off x="3882600" y="2561760"/>
              <a:ext cx="2600280" cy="2600280"/>
            </a:xfrm>
            <a:custGeom>
              <a:avLst/>
              <a:gdLst>
                <a:gd name="textAreaLeft" fmla="*/ 0 w 2600280"/>
                <a:gd name="textAreaRight" fmla="*/ 2600640 w 2600280"/>
                <a:gd name="textAreaTop" fmla="*/ 0 h 2600280"/>
                <a:gd name="textAreaBottom" fmla="*/ 2600640 h 26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_s46090"/>
            <p:cNvSpPr/>
            <p:nvPr/>
          </p:nvSpPr>
          <p:spPr>
            <a:xfrm rot="10800000">
              <a:off x="3271680" y="3173040"/>
              <a:ext cx="2600640" cy="2600280"/>
            </a:xfrm>
            <a:custGeom>
              <a:avLst/>
              <a:gdLst>
                <a:gd name="textAreaLeft" fmla="*/ 0 w 2600640"/>
                <a:gd name="textAreaRight" fmla="*/ 2601000 w 2600640"/>
                <a:gd name="textAreaTop" fmla="*/ 0 h 2600280"/>
                <a:gd name="textAreaBottom" fmla="*/ 2600640 h 26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_s46092"/>
            <p:cNvSpPr/>
            <p:nvPr/>
          </p:nvSpPr>
          <p:spPr>
            <a:xfrm rot="16200000">
              <a:off x="2660760" y="2561760"/>
              <a:ext cx="2600280" cy="2600280"/>
            </a:xfrm>
            <a:custGeom>
              <a:avLst/>
              <a:gdLst>
                <a:gd name="textAreaLeft" fmla="*/ 0 w 2600280"/>
                <a:gd name="textAreaRight" fmla="*/ 2600640 w 2600280"/>
                <a:gd name="textAreaTop" fmla="*/ 0 h 2600280"/>
                <a:gd name="textAreaBottom" fmla="*/ 2600640 h 260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_s46087"/>
            <p:cNvSpPr/>
            <p:nvPr/>
          </p:nvSpPr>
          <p:spPr>
            <a:xfrm>
              <a:off x="5264280" y="2190600"/>
              <a:ext cx="9792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iered Instruction /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rven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_s46088"/>
            <p:cNvSpPr/>
            <p:nvPr/>
          </p:nvSpPr>
          <p:spPr>
            <a:xfrm>
              <a:off x="2901960" y="4556160"/>
              <a:ext cx="97956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mil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volvemen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_s46091"/>
            <p:cNvSpPr/>
            <p:nvPr/>
          </p:nvSpPr>
          <p:spPr>
            <a:xfrm>
              <a:off x="2900520" y="2192400"/>
              <a:ext cx="9792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igh Qualit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lassroom Instru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46093"/>
            <p:cNvSpPr/>
            <p:nvPr/>
          </p:nvSpPr>
          <p:spPr>
            <a:xfrm>
              <a:off x="5265720" y="4554360"/>
              <a:ext cx="97956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ngoing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tudent Assessment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out the right building-level leadership, RtI will not realize the potential it has in fundamentally altering for the better both the delivery system and educational practice in our schools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r. David P. Prasse, Professor and Dean of the School of Education, Loyola University Chicag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88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YSED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il 2008 State Education Department Field Me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zes the use of RtI in the State'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to determine learning disabili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LD) an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, effective July 1, 201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all school districts have an RtI program in place as part of the process to determine if a student in grades K-4 is a student with a learning disability in the area of rea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  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ffective on or after July 1, 2012, a school district shall not use the severe discrepancy criteria to determine that a student in kindergarten through grade four has a learning disability in the area of read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”  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[8 NYCRR section 200.4(j)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ior to the State’s Memo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 200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termining whether a child has a specific learning disability, a local agency may use a process that determines if the child responds to scientific research-based intervention as part of the evaluation procedures…” (H.R. 1350, 2004, section 614 (b)(6)(A&amp;B)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 rot="20844600">
            <a:off x="4267080" y="5257440"/>
            <a:ext cx="3562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Less stringen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5410080" y="4876920"/>
            <a:ext cx="7632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ackground (The Who?)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I Established 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stant Memb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ST Chairperson, Guidance Counselor, Speech Therapist, School Psychologist, Par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rying Memb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am Teachers (General and Special Education), Encore Teachers, Support Staff, Social Worker, Stud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Attached </a:t>
            </a:r>
            <a:r>
              <a:rPr b="0" lang="en-US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“MMS IST/RTI FLOWCHAR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Image of Slide 22"/>
          <p:cNvPicPr/>
          <p:nvPr/>
        </p:nvPicPr>
        <p:blipFill>
          <a:blip r:embed="rId2"/>
          <a:srcRect l="16999" t="32667" r="25000" b="12669"/>
          <a:stretch/>
        </p:blipFill>
        <p:spPr>
          <a:xfrm>
            <a:off x="5410080" y="1295280"/>
            <a:ext cx="25909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er I: What is i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lassroom instr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in the general education classro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quality program incorporating stand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arch-based instructional strategies or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-going assessment of strengths and n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-going professional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lementation: Part 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e the staff about what RtI 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it to fail” vs. R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rict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rage with New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determining whether a child has a specific learning disability, a local educational agency may use a process that determines if the child responds to a scientific, research based intervention as part of the evaluation procedures”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DEA 2004, Title 20, Section 1414, subsection b(6)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22:28Z</dcterms:created>
  <dc:creator>User</dc:creator>
  <dc:description/>
  <dc:language>en-US</dc:language>
  <cp:lastModifiedBy>User</cp:lastModifiedBy>
  <dcterms:modified xsi:type="dcterms:W3CDTF">2009-04-30T00:50:07Z</dcterms:modified>
  <cp:revision>24</cp:revision>
  <dc:subject/>
  <dc:title>Response to Intervention (RTI) &amp; The IST Process</dc:title>
</cp:coreProperties>
</file>